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695-3E55-49B1-8FF1-79218902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53F-F85C-43AA-BEE9-059AE0FF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82F-6A1B-42DF-9E70-EED4098A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FBC-4094-4942-9FE2-2537CC54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B99E-834B-4109-8D78-417FABA0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B632-A8C3-4B2F-96F3-D050AD81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EBD7-52D7-4E51-BEA6-C8178B50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C062-2933-4CE0-8C0A-D0444A32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8115-33EE-4C47-A073-A657AF26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E515-E7B2-418F-B1B7-F6DE289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58CB-FAB2-4C84-8DE7-ED8292FB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693-3567-4889-9F24-13F21917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567A-6056-41B8-8ED2-EE61154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F9B8-BB4A-4FE3-A681-E64242D4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95E2-A652-4F22-BD04-BCDC7D54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56F7-BD78-43E7-96CF-0C0CDD6C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0DD7-385B-43C3-B0A1-E18C6FF6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4A0-08AF-4F9E-B66E-BC506AA3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5D1-A15B-45FF-800B-3C1640ED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935-F82B-4379-8D90-BAEADC95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184-4F16-4E87-B037-9F238A57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DA1-D037-4D8A-89AF-FB6CC689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C6C-6661-483C-A78D-47A7992F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044-9D29-4700-AF4D-32EEEC89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3903-9D46-405C-8372-4343968C6F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B26F-09C2-4E1E-A6A8-543B54E053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atya Nal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Top-lev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724120" cy="226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4095720" cy="210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362320" y="1828800"/>
            <a:ext cx="877680" cy="2320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133720" y="4456080"/>
            <a:ext cx="1160280" cy="2325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6201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8x64 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114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ing through Abutment - Fillers with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useful tips for automation through Ski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rocedures – with @key optional arg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a-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ggering for pitch-mat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through abu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deliver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d set of highly parametrized Skill scripts for SRAM schematic and layout gen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and user indepen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-specific work – parametrization of schematic and layout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 in prog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AM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b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– 8-32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-mux – 1,2,4,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– 8-5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and #cols power of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block using en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/Layout script for tiling each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 script to generate final S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782800" cy="3733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56080" y="2887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8280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3392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05320" y="37015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1911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48006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54100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150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715000" y="43434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15000" y="49525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267080" y="44953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665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e-decode o/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l-muxed B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57800" y="56383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029200" y="56383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60339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in &amp;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54864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6386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3341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84520" y="5257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440" y="5465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d/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952880"/>
            <a:ext cx="1066680" cy="9907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019920"/>
            <a:ext cx="18288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2590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40240" y="389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L 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7800" y="5357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70120" y="4753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completely autom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@key in Skill procedures for optional arg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stor sizes from optimization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800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(UvaEceSchematicCreateInstParNand2(cvid libName cellName Iname location intop inbot out VDD VSS @key (lp 0.06) (wp 0.20) (ln 0.060) (wn 0.20) (m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-cell schematic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cells – PD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rs –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thing else – Manual, can be replaced by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W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155556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00600" y="4343400"/>
            <a:ext cx="3124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L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-program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gered for pitch-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2494080"/>
            <a:ext cx="4415040" cy="850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3048120" y="24379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8195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706840"/>
            <a:ext cx="1752840" cy="1522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L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L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524560" y="247608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7581600" y="125676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602160" cy="2992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3962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ll t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io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371600" y="35812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3434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2819520"/>
            <a:ext cx="3429000" cy="1522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571640" y="4190760"/>
            <a:ext cx="2705400" cy="114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34120" y="251424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019920" y="2590920"/>
            <a:ext cx="8380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Ti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1535400" cy="3074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43200" y="243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ecode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3695400" y="26488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038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placed and routed by En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Bitsl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2011320" cy="3057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52578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19520" y="44193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666880" y="365724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0384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743200" y="30477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3526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5029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 Staggered for pitch-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37:53Z</dcterms:created>
  <dc:creator>uva</dc:creator>
  <dc:description/>
  <dc:language>en-US</dc:language>
  <cp:lastModifiedBy>uva</cp:lastModifiedBy>
  <dcterms:modified xsi:type="dcterms:W3CDTF">2010-05-04T15:18:42Z</dcterms:modified>
  <cp:revision>16</cp:revision>
  <dc:subject/>
  <dc:title>SRAM Generator</dc:title>
</cp:coreProperties>
</file>